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BC0-19D7-4F17-9CFB-898B707D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4C3-5D53-466A-9912-CB0A69F0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FCA-78F7-42DE-AAF4-2F0A84EB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7EC-57C3-4245-A0C2-CB319077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986-10FE-4E5B-B0A9-8B40B5BF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8D7-4034-49EC-B522-C7DAD95D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865-0897-46FF-991E-1F6CD7E2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B49-2FE8-48CF-BF3E-78370696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123-825D-4130-A8DD-F5424BE7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11F-02C3-4504-8961-4F41E3C3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F3A-2887-4664-8710-B2E2241C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A0D-E52F-464F-BED6-114387F4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AFD9-ECA8-4A44-9ED2-12A645B94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askerville Old Face"/>
              </a:rPr>
              <a:t>This is GGGRREEECCCEEE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3389400"/>
            <a:ext cx="4419720" cy="346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4724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s the Geography of Idaho Impacted your l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had the same impact on Ancient Gree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81280" y="5591160"/>
            <a:ext cx="23814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of Ancient 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eece has a Mediterranean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Winters mild and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-allows limited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-grew grapes and ol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ummers are warm and 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-leads to dr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-grapes and olives some of few plants that can survive dr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reece receives 2.2 inches of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average temp. is balmy 64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oise/Nampa gets 1.6 inches of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verage temp is cold 39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AT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281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3817800"/>
            <a:ext cx="4876920" cy="304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Greece is located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Greece is very mountaino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Around 75% of Greece is mountainous terrai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Difficult to f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Surrounded by se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Greece is located on the Balkan Penins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Made trade easi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- could get what they couldn’t g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-allowed for ideas to flow free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543440" y="55627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01000" y="53341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Greeks worked with their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Cut off by the mountains and the s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Isol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Led to the formation of city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Limited unity and interaction in Ancient Gree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Fierce rivalries between city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Sea became v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Hundreds of bays for safety of Greek 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Skilled sai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Traded olives, grapes &amp; mar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Got grains, metals &amp;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-Adapted Phoenician alphab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-Became base for all Western alphabe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0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Ancient Greece map"/>
          <p:cNvPicPr/>
          <p:nvPr/>
        </p:nvPicPr>
        <p:blipFill>
          <a:blip r:embed="rId2"/>
          <a:stretch/>
        </p:blipFill>
        <p:spPr>
          <a:xfrm>
            <a:off x="1066680" y="1189080"/>
            <a:ext cx="64771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5:59:40Z</dcterms:created>
  <dc:creator>jobert</dc:creator>
  <dc:description/>
  <dc:language>en-US</dc:language>
  <cp:lastModifiedBy>jobert</cp:lastModifiedBy>
  <dcterms:modified xsi:type="dcterms:W3CDTF">2014-01-13T20:27:07Z</dcterms:modified>
  <cp:revision>7</cp:revision>
  <dc:subject/>
  <dc:title>This is GGGRREEECCCEEE!!!!!</dc:title>
</cp:coreProperties>
</file>